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49D0-7491-40EA-9D82-E1A60BE7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C3F0-FE9A-418A-836D-2A43238B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58C7-2262-43D3-9F0A-84286397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C9D7-7AE5-4081-A5F4-61A1F937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D1AD-355D-4C3E-BB2A-13EFB5A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35FB-2442-408E-8BC7-0B99814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A62F-A0D4-4541-9E9E-F4F05A96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527B-F98B-4724-8C23-C7AE9067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33AB-9952-44D8-96F8-1EAA4588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7E46-F75F-4028-8849-B848F0B8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741-2556-40AA-A2FE-C37FA7F2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62A0-1CA0-46F0-A639-2867B97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831B-B36F-43A9-8AC0-508BCF5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B34-DAE9-4810-AEB8-1FE161F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3B60-F1DF-45DB-B935-A1D4590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F77B-4DEC-4C93-AB0A-FCCA1B6D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8CC4-72EC-4A6A-B835-5C4D0426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6AFC-B7B8-4C64-B505-F1F41CB5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DEF5-4522-4D58-8F77-753A1BC8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5EF0-7115-4871-85D9-B3BA502A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47B3-48AA-474B-AA60-F4D9A89D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C6A4-059D-405C-85F9-94E7A95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FFC7-E10B-467A-9C17-3355B987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0F6E-70DA-4EC9-9E42-F4969C3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CDB7-AE88-433B-B3F3-8C909DC05EA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96C-6720-419E-AAC6-8A875394AC2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08720"/>
            <a:ext cx="9577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15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(259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Скрий се, душе мо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крий се в Христа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ам ти е поко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ам и радостта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трах пропъд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бърже ден лети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Пак ще пролет ми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зимен ден смени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В Бога надеж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ал имай ти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ой над теб се свеж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и нежно бд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08720"/>
            <a:ext cx="9577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Скрий се, душе мо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крий се в Христа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ам ти е поко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ам и радостта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Дойдат тъм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всичко се слом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Господ пресъзд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болките сами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ой е навек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вой щит, хвал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в стръмните пътеки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воя скала!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-342720"/>
            <a:ext cx="9577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3. Скрий се, душе мо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крий се в Христа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ам ти е поко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ам и радостта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Ще се смълча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вопли в твоя път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чака те блаженство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лава в райски кът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ам ще възложиш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тежък тов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пред нозете Бож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на свят олтар!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6:30:35Z</dcterms:modified>
  <cp:revision>92</cp:revision>
  <dc:subject/>
  <dc:title>Slide 1</dc:title>
</cp:coreProperties>
</file>